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C6DC-1523-4632-85D6-673D71F80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E150-0659-40F6-B6AA-B922DA27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487F-7013-45F0-A9D1-EC46B255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8DC6-8277-4A04-BCE4-5B6682020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4B99-D6C7-49A0-95C5-ACDA28507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B1B9-2C57-4D82-91FC-8356A26E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C67F-6AEE-4207-AD97-B6A71FC6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7765-FE09-4F55-B20D-E6D65FB5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32F6-CDC7-43FD-80EA-436493E6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0F0B-AC98-4F28-B1A8-36D788B1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1513-2144-4024-AD26-4059106E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B3EB-539F-4BD4-9257-4896DF90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EF17-6C0C-4A8A-9775-87217F93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5471-C6C6-40DC-9AC3-FC2BFE30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BC01-D3A5-405F-A7EC-D988ACA4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8EB2-E20E-4434-9717-0696A2BA4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ADA0-9F34-498B-8ADA-0D10022B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7E6B-68DC-4245-94A4-14B309BF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329A-33C7-4F41-A025-EF8FDEBF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7424-70AA-46DC-887F-09B6DDF3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544F-0858-4360-848C-70F65BD9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596D-751C-4FC4-839F-76F34165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F88C-A23E-49BC-9C20-C60A1CF7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11C9-D33C-4A73-A130-CD870CDF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42D7-9972-472D-848F-4B6BE4D82595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BF8F-18B9-4C72-8F88-5CC3E34ADD7D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O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arelessness:mistakes::_________:________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rite the relationship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nswers-Exampl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ctions:consequenc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elationship is cause and effec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ocused Freewrit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f you could spend one year in perfect happiness but afterward you would remember nothing of the experience would you do so? If not, why not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Vocabulary Practic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f I were given the choice between staying home and going to Springfield, I would choose the second ________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ave you ever committed a _______ and regretted it later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Our treasurer was given _____ of the financial record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n an airplane even the highest building seemed ________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flowers were ______ in the winter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Great Gatsb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142640"/>
            <a:ext cx="7386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Write a summary of the beginning of ch. 3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Do partner imagery activity-</a:t>
            </a: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Must be someone you haven’t worked with before.</a:t>
            </a:r>
            <a:r>
              <a:rPr b="0" lang="en-US" sz="4400" spc="-1" strike="noStrike">
                <a:solidFill>
                  <a:srgbClr val="2f1311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The Great Gatsby-Journal Response (1 Paragraph)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218960"/>
            <a:ext cx="7386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Have you ever attended a party or social event where you only knew one or two people? Nick says he felt compelled to attach himself to someone. Write about a time you felt like this, or why you never feel like this. 1 Par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Homework-Finish Ch. 3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4:28:07Z</dcterms:created>
  <dc:creator>rebecca</dc:creator>
  <dc:description/>
  <dc:language>en-US</dc:language>
  <cp:lastModifiedBy>rebecca</cp:lastModifiedBy>
  <dcterms:modified xsi:type="dcterms:W3CDTF">2009-02-18T19:18:04Z</dcterms:modified>
  <cp:revision>2</cp:revision>
  <dc:subject/>
  <dc:title>DOA</dc:title>
</cp:coreProperties>
</file>